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284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476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476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95280" y="2743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8284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9528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8284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9476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9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952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9476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9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5280" y="2743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284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284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14706"/>
          <a:stretch/>
        </p:blipFill>
        <p:spPr>
          <a:xfrm>
            <a:off x="0" y="838080"/>
            <a:ext cx="9144000" cy="6026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Click to edit the title text format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143000" cy="701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590920" y="6324480"/>
            <a:ext cx="620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13a81"/>
                </a:solidFill>
                <a:latin typeface="Arial"/>
              </a:rPr>
              <a:t>Linking Research to Policy and 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0" b="14706"/>
          <a:stretch/>
        </p:blipFill>
        <p:spPr>
          <a:xfrm>
            <a:off x="0" y="838080"/>
            <a:ext cx="9144000" cy="602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600" y="1752480"/>
            <a:ext cx="5867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54a4"/>
                </a:solidFill>
                <a:latin typeface="Kabel Dm BT"/>
              </a:rPr>
              <a:t>Click to edit the title text format</a:t>
            </a:r>
            <a:endParaRPr b="0" lang="en-US" sz="5400" spc="-1" strike="noStrike">
              <a:solidFill>
                <a:srgbClr val="0054a4"/>
              </a:solidFill>
              <a:latin typeface="Kabel Dm B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15000" y="6095880"/>
            <a:ext cx="2011320" cy="573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80880" y="533520"/>
            <a:ext cx="1676520" cy="1028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4267080"/>
            <a:ext cx="175248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Pennsylvania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te University (PSU)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utgers, The State University of New Jersey, Center for Effective School Practices (CES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liber, an IC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national Compa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tiri Gro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ALYT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105084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abel Dm BT"/>
              </a:rPr>
              <a:t>Regional Educational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57913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13a81"/>
                </a:solidFill>
                <a:latin typeface="Arial"/>
              </a:rPr>
              <a:t>Linking Research to Policy and 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a94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a94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a94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9807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4a4"/>
                </a:solidFill>
                <a:latin typeface="Kabel Dm BT"/>
              </a:rPr>
              <a:t>Understanding the Impact of</a:t>
            </a:r>
            <a:br>
              <a:rPr sz="2800"/>
            </a:br>
            <a:r>
              <a:rPr b="0" lang="en-US" sz="5400" spc="-1" strike="noStrike">
                <a:solidFill>
                  <a:srgbClr val="0054a4"/>
                </a:solidFill>
                <a:latin typeface="Kabel Dm BT"/>
              </a:rPr>
              <a:t>Classrooms for the Future</a:t>
            </a:r>
            <a:endParaRPr b="0" lang="en-US" sz="5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14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llaborative effort of the Pennsylvania Department of Education and REL Mid-Atla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a4"/>
                </a:solidFill>
                <a:latin typeface="Times New Roman"/>
              </a:rPr>
              <a:t>How does CFF effect…</a:t>
            </a:r>
            <a:br>
              <a:rPr sz="2000"/>
            </a:br>
            <a:r>
              <a:rPr b="0" lang="en-US" sz="4400" spc="-1" strike="noStrike">
                <a:solidFill>
                  <a:srgbClr val="0054a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54a4"/>
                </a:solidFill>
                <a:latin typeface="Times New Roman"/>
              </a:rPr>
              <a:t>how teachers feel?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467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the value of technology in the teaching and learning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teaching as a care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what students are capable o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teacher worklo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the roles of teachers, students, and technolog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a4"/>
                </a:solidFill>
                <a:latin typeface="Times New Roman"/>
              </a:rPr>
              <a:t>How does CFF effect…</a:t>
            </a:r>
            <a:br>
              <a:rPr sz="2000"/>
            </a:br>
            <a:r>
              <a:rPr b="0" lang="en-US" sz="4400" spc="-1" strike="noStrike">
                <a:solidFill>
                  <a:srgbClr val="0054a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54a4"/>
                </a:solidFill>
                <a:latin typeface="Times New Roman"/>
              </a:rPr>
              <a:t>how students feel?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467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value of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ir readiness for college and the world outside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what students are capable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a4"/>
                </a:solidFill>
                <a:latin typeface="Times New Roman"/>
              </a:rPr>
              <a:t>How does CFF effect…</a:t>
            </a:r>
            <a:br>
              <a:rPr sz="2000"/>
            </a:br>
            <a:r>
              <a:rPr b="0" lang="en-US" sz="4400" spc="-1" strike="noStrike">
                <a:solidFill>
                  <a:srgbClr val="0054a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54a4"/>
                </a:solidFill>
                <a:latin typeface="Times New Roman"/>
              </a:rPr>
              <a:t>student achievement? </a:t>
            </a:r>
            <a:r>
              <a:rPr b="1" lang="en-US" sz="2400" spc="-1" strike="noStrike">
                <a:solidFill>
                  <a:srgbClr val="0054a4"/>
                </a:solidFill>
                <a:latin typeface="Times New Roman"/>
              </a:rPr>
              <a:t>(not in Y1)</a:t>
            </a:r>
            <a:endParaRPr b="0" lang="en-US" sz="2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74674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1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e four core subjec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1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21st Century Skil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4"/>
                </a:solidFill>
                <a:latin typeface="Times New Roman"/>
              </a:rPr>
              <a:t>What Logistical Issues Inhibit Learning?</a:t>
            </a:r>
            <a:endParaRPr b="0" lang="en-US" sz="32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wn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n time to rep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ttery issu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 / school compatibi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 sup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Times New Roman"/>
              </a:rPr>
              <a:t>What we ask of Educators…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 Surve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 current requir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Observa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 more than 1 per mon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Teacher Online Surveys (begin &amp; 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tudent Online Surveys (begin &amp; 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Interviews with building lea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egin &amp;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 interviews and survey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eriod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attendance &amp; demographic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Times New Roman"/>
              </a:rPr>
              <a:t>What you get from us…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tion you ne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to make good deci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s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Times New Roman"/>
              </a:rPr>
              <a:t>For CFF Assessment Questions…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a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. Kyle Peck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rector, REL Mid-Atlant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814) 865-2525 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@relma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915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4"/>
                </a:solidFill>
                <a:latin typeface="Kabel Dm BT"/>
              </a:rPr>
              <a:t>Assessment / “Formative Evaluation”</a:t>
            </a:r>
            <a:endParaRPr b="0" lang="en-US" sz="3200" spc="-1" strike="noStrike">
              <a:solidFill>
                <a:srgbClr val="0054a4"/>
              </a:solidFill>
              <a:latin typeface="Kabel Dm B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3902040" cy="2925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086600" y="1523880"/>
            <a:ext cx="1568520" cy="2367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98108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562720" y="3886200"/>
            <a:ext cx="3124080" cy="2173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572000" y="2209680"/>
            <a:ext cx="15685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(Summative) Evaluation.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2438640" cy="1706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04920" y="4267080"/>
            <a:ext cx="2895480" cy="1930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943600" y="3886200"/>
            <a:ext cx="2997360" cy="2247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019920" y="1447920"/>
            <a:ext cx="2868480" cy="1981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276720" y="1981080"/>
            <a:ext cx="25621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Our Goals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ather information that will guide implementation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nderstand how the addition of one-to-one access to computers and the Internet impacts the teaching and learn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elp educators understand and think about the progress being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4a4"/>
                </a:solidFill>
                <a:latin typeface="Kabel Dm BT"/>
              </a:rPr>
              <a:t>Year One:  Formative Evaluation</a:t>
            </a:r>
            <a:endParaRPr b="0" lang="en-US" sz="36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a94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1 data will be used to "steer" the progra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a94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ter we’ll look at student achievement, but it would be premature to do so in Y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274680"/>
            <a:ext cx="739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4a4"/>
                </a:solidFill>
                <a:latin typeface="Kabel Dm BT"/>
              </a:rPr>
              <a:t>Guiding Questions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619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a94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es CFF effect </a:t>
            </a:r>
            <a:r>
              <a:rPr b="1" lang="en-US" sz="2800" spc="-1" strike="noStrike">
                <a:solidFill>
                  <a:srgbClr val="0054a4"/>
                </a:solidFill>
                <a:latin typeface="Times New Roman"/>
              </a:rPr>
              <a:t>what teachers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a94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es CFF effect </a:t>
            </a:r>
            <a:r>
              <a:rPr b="1" lang="en-US" sz="2800" spc="-1" strike="noStrike">
                <a:solidFill>
                  <a:srgbClr val="0054a4"/>
                </a:solidFill>
                <a:latin typeface="Times New Roman"/>
              </a:rPr>
              <a:t>what students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a94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es CFF effect </a:t>
            </a:r>
            <a:r>
              <a:rPr b="1" lang="en-US" sz="2800" spc="-1" strike="noStrike">
                <a:solidFill>
                  <a:srgbClr val="0054a4"/>
                </a:solidFill>
                <a:latin typeface="Times New Roman"/>
              </a:rPr>
              <a:t>how teachers fe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a94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es CFF effect </a:t>
            </a:r>
            <a:r>
              <a:rPr b="1" lang="en-US" sz="2800" spc="-1" strike="noStrike">
                <a:solidFill>
                  <a:srgbClr val="0054a4"/>
                </a:solidFill>
                <a:latin typeface="Times New Roman"/>
              </a:rPr>
              <a:t>how students fe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a94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es CFF effect </a:t>
            </a:r>
            <a:r>
              <a:rPr b="1" lang="en-US" sz="2800" spc="-1" strike="noStrike">
                <a:solidFill>
                  <a:srgbClr val="0054a4"/>
                </a:solidFill>
                <a:latin typeface="Times New Roman"/>
              </a:rPr>
              <a:t>how students perform</a:t>
            </a:r>
            <a:br>
              <a:rPr sz="2800"/>
            </a:br>
            <a:r>
              <a:rPr b="1" lang="en-US" sz="2800" spc="-1" strike="noStrike">
                <a:solidFill>
                  <a:srgbClr val="0054a4"/>
                </a:solidFill>
                <a:latin typeface="Times New Roman"/>
              </a:rPr>
              <a:t>            academic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fter Y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a94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an we learn about </a:t>
            </a:r>
            <a:r>
              <a:rPr b="1" lang="en-US" sz="2800" spc="-1" strike="noStrike">
                <a:solidFill>
                  <a:srgbClr val="0054a4"/>
                </a:solidFill>
                <a:latin typeface="Times New Roman"/>
              </a:rPr>
              <a:t>how to prepare</a:t>
            </a:r>
            <a:br>
              <a:rPr sz="2800"/>
            </a:br>
            <a:r>
              <a:rPr b="1" lang="en-US" sz="2800" spc="-1" strike="noStrike">
                <a:solidFill>
                  <a:srgbClr val="0054a4"/>
                </a:solidFill>
                <a:latin typeface="Times New Roman"/>
              </a:rPr>
              <a:t>            teach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one-to-one environ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a4"/>
                </a:solidFill>
                <a:latin typeface="Times New Roman"/>
              </a:rPr>
              <a:t>How does CFF effect…</a:t>
            </a:r>
            <a:br>
              <a:rPr sz="2000"/>
            </a:br>
            <a:r>
              <a:rPr b="0" lang="en-US" sz="4400" spc="-1" strike="noStrike">
                <a:solidFill>
                  <a:srgbClr val="0054a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54a4"/>
                </a:solidFill>
                <a:latin typeface="Times New Roman"/>
              </a:rPr>
              <a:t>what teachers do?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467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a94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1" lang="en-US" sz="3200" spc="-1" strike="noStrike">
                <a:solidFill>
                  <a:srgbClr val="0054a4"/>
                </a:solidFill>
                <a:latin typeface="Times New Roman"/>
              </a:rPr>
              <a:t>teaching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ange as a result of the CFF progr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a94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o, how are they diffe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a94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 changes in teaching methods different across content ar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a94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do changes in teaching method occur, and do they appear to end at some point or continue to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a4"/>
                </a:solidFill>
                <a:latin typeface="Times New Roman"/>
              </a:rPr>
              <a:t>How does CFF effect…</a:t>
            </a:r>
            <a:br>
              <a:rPr sz="2000"/>
            </a:br>
            <a:r>
              <a:rPr b="0" lang="en-US" sz="4400" spc="-1" strike="noStrike">
                <a:solidFill>
                  <a:srgbClr val="0054a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54a4"/>
                </a:solidFill>
                <a:latin typeface="Times New Roman"/>
              </a:rPr>
              <a:t>what students do?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467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CFF program appear to influence </a:t>
            </a:r>
            <a:r>
              <a:rPr b="1" lang="en-US" sz="2800" spc="-1" strike="noStrike">
                <a:solidFill>
                  <a:srgbClr val="0054a4"/>
                </a:solidFill>
                <a:latin typeface="Arial"/>
              </a:rPr>
              <a:t>students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ipline refer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in the content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ment / time on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, do certain changes in teaching method that appear to have greater impact on these vari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a4"/>
                </a:solidFill>
                <a:latin typeface="Times New Roman"/>
              </a:rPr>
              <a:t>How does CFF effect…</a:t>
            </a:r>
            <a:br>
              <a:rPr sz="2000"/>
            </a:br>
            <a:r>
              <a:rPr b="0" lang="en-US" sz="4400" spc="-1" strike="noStrike">
                <a:solidFill>
                  <a:srgbClr val="0054a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54a4"/>
                </a:solidFill>
                <a:latin typeface="Times New Roman"/>
              </a:rPr>
              <a:t>what students do?</a:t>
            </a:r>
            <a:endParaRPr b="0" lang="en-US" sz="4400" spc="-1" strike="noStrike">
              <a:solidFill>
                <a:srgbClr val="0054a4"/>
              </a:solidFill>
              <a:latin typeface="Kabel Dm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467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CFF </a:t>
            </a:r>
            <a:r>
              <a:rPr b="1" lang="en-US" sz="3200" spc="-1" strike="noStrike">
                <a:solidFill>
                  <a:srgbClr val="0054a4"/>
                </a:solidFill>
                <a:latin typeface="Arial"/>
              </a:rPr>
              <a:t>stud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ked to work more with 21st century ski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media communication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a9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Thin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yle L. Peck</cp:lastModifiedBy>
  <dcterms:modified xsi:type="dcterms:W3CDTF">2006-11-29T14:42:19Z</dcterms:modified>
  <cp:revision>8</cp:revision>
  <dc:subject/>
  <dc:title>Understanding the Impact of Classrooms for the Future</dc:title>
</cp:coreProperties>
</file>